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C83-D3BB-4920-A1C4-98DB4A42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4EB-E1A7-47CB-A54E-BA9825CC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394-7543-4AFC-8C82-7889CF32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94F-A9FD-4468-B1F3-33E19339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E6B-7B5C-43F8-8000-3B683162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4AF-50B2-4339-BF23-755EE57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A79-07D6-47EA-8BC2-1A071E5D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2CF-281D-44FA-B272-26048B4F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28F-EC24-4365-856A-AD0591A1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DF7-098B-4714-8152-4224C440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F5E-D6AC-415B-829E-4E722A2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CCA-6971-402C-B0F9-D655045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C6D4-0079-4EB0-875B-F78415690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gar Allan Poe (1809-18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File:Edgar Allan Poe 2 - edit2.jpg"/>
          <p:cNvPicPr/>
          <p:nvPr/>
        </p:nvPicPr>
        <p:blipFill>
          <a:blip r:embed="rId1"/>
          <a:stretch/>
        </p:blipFill>
        <p:spPr>
          <a:xfrm>
            <a:off x="2771640" y="1413000"/>
            <a:ext cx="35308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aco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Catacombs_S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06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Paris-Catacombs-path-through-the-bones"/>
          <p:cNvPicPr/>
          <p:nvPr/>
        </p:nvPicPr>
        <p:blipFill>
          <a:blip r:embed="rId2"/>
          <a:stretch/>
        </p:blipFill>
        <p:spPr>
          <a:xfrm>
            <a:off x="0" y="1916280"/>
            <a:ext cx="453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it for Revenge – Amontillad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92 li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montillado"/>
          <p:cNvPicPr/>
          <p:nvPr/>
        </p:nvPicPr>
        <p:blipFill>
          <a:blip r:embed="rId1"/>
          <a:stretch/>
        </p:blipFill>
        <p:spPr>
          <a:xfrm>
            <a:off x="2217600" y="1557360"/>
            <a:ext cx="462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2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ve of His Life – Virginia Clemm(1822-1847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 loss of his wife was a sad blow to him. He did not seem to care, after she was gone, whether he lived an hour, a day, a week or a year; she was his all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File:VirginiaPoe.jpg"/>
          <p:cNvPicPr/>
          <p:nvPr/>
        </p:nvPicPr>
        <p:blipFill>
          <a:blip r:embed="rId1"/>
          <a:stretch/>
        </p:blipFill>
        <p:spPr>
          <a:xfrm>
            <a:off x="420840" y="1700280"/>
            <a:ext cx="4330440" cy="515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File:PoeMarriage.JPG"/>
          <p:cNvPicPr/>
          <p:nvPr/>
        </p:nvPicPr>
        <p:blipFill>
          <a:blip r:embed="rId2"/>
          <a:stretch/>
        </p:blipFill>
        <p:spPr>
          <a:xfrm>
            <a:off x="4716360" y="1700280"/>
            <a:ext cx="40388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iterary Geni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earliest known American writers of the short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well-known author to try to earn a living through writing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to be the inventor of the detective-fiction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by some to be the creator of the horror, gothic, crime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merican writer to be more popular in Europe than the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ystery Writer’s Death a Myst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d in Baltimore at the age of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explored and rumored: alcoholism, brain congestion, cholera, drugs, heart disease, rabies, suicide, tuberculosi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on the streets of Baltimore delirious, "in great distress, and... in need of immediate assistance“(Oct.3,184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praved, drunk, drug-addled madm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Edgar Allan Poe is dead. He died in Baltimore the day before yesterday. This announcement will startle many, but few will be grieved by it”(Oct.9,1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Cat &amp; The Tell-Tale Hea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The_Black_Cat.jpg black and red image by Bite_666"/>
          <p:cNvPicPr/>
          <p:nvPr/>
        </p:nvPicPr>
        <p:blipFill>
          <a:blip r:embed="rId1"/>
          <a:stretch/>
        </p:blipFill>
        <p:spPr>
          <a:xfrm>
            <a:off x="0" y="1341360"/>
            <a:ext cx="4932360" cy="366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fca55"/>
          <p:cNvPicPr/>
          <p:nvPr/>
        </p:nvPicPr>
        <p:blipFill>
          <a:blip r:embed="rId2"/>
          <a:stretch/>
        </p:blipFill>
        <p:spPr>
          <a:xfrm>
            <a:off x="4643280" y="3284640"/>
            <a:ext cx="45007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sk of Amontil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ublished in November 18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ror short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ic Poe work that centers around the victim being buried alive (immur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d from the killer’s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ory does not involve a police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resor – the narrator/k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ask"/>
          <p:cNvPicPr/>
          <p:nvPr/>
        </p:nvPicPr>
        <p:blipFill>
          <a:blip r:embed="rId1"/>
          <a:stretch/>
        </p:blipFill>
        <p:spPr>
          <a:xfrm>
            <a:off x="611280" y="1803240"/>
            <a:ext cx="3816360" cy="3581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5292720" y="184464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773360"/>
            <a:ext cx="3168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family motto- “Nemo me impune lacessit”( no one can attack me without being punis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Motive - __________. (Theme or main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una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20px-William_Merritt_Chase_Keying_up"/>
          <p:cNvPicPr/>
          <p:nvPr/>
        </p:nvPicPr>
        <p:blipFill>
          <a:blip r:embed="rId1"/>
          <a:stretch/>
        </p:blipFill>
        <p:spPr>
          <a:xfrm>
            <a:off x="2843280" y="1628640"/>
            <a:ext cx="3038400" cy="5013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627280" y="12589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ic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300720" y="1700280"/>
            <a:ext cx="223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o fortunate and dressed as a jester at the Carnival, he is made a fool by the killer. This is very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laz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ile:Palazzo.senatorio.rome.arp.jpg"/>
          <p:cNvPicPr/>
          <p:nvPr/>
        </p:nvPicPr>
        <p:blipFill>
          <a:blip r:embed="rId1"/>
          <a:stretch/>
        </p:blipFill>
        <p:spPr>
          <a:xfrm>
            <a:off x="755640" y="1557360"/>
            <a:ext cx="76201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23:06:28Z</dcterms:created>
  <dc:creator>User</dc:creator>
  <dc:description/>
  <dc:language>en-US</dc:language>
  <cp:lastModifiedBy>user</cp:lastModifiedBy>
  <dcterms:modified xsi:type="dcterms:W3CDTF">2013-10-07T11:12:33Z</dcterms:modified>
  <cp:revision>4</cp:revision>
  <dc:subject/>
  <dc:title>Edgar Allan Poe (1809-1849)</dc:title>
</cp:coreProperties>
</file>